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4A9-413E-4F3B-93FC-915010F1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CAF-0F11-4137-9351-F3A435C9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9C0-A09C-4B43-9D17-A759C163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4D1-4FEC-4181-8FB2-4E5AFABD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88B-667E-4F5D-ABA5-394FA70A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E7C-74A6-4345-AC3A-5969479F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5A5-F3BC-401A-8156-A22E23D9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456-D344-4214-AE05-230CE86F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AAA-766F-40C5-8766-FBE493A7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2320-70A3-49D3-9A08-6060FB0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A15-95D6-4348-9F23-AD059451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E30-A99B-4790-A462-8FCC72F1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D306-0691-4CF6-9303-3AB4FC664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ень памяти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жертв ДТП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Цель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братить внимание водителей и пешеходов поселка на проблему травматизма на дорог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гибели люд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еники 5 Б класса подготов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ециальные памятки для участни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рожного движения и раздавали 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одителям и пешех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03280" y="907920"/>
            <a:ext cx="6367680" cy="47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3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408720" cy="450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403280" y="1341360"/>
            <a:ext cx="60800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0720" y="836640"/>
            <a:ext cx="2386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3835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58920" y="981000"/>
            <a:ext cx="6481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27:36Z</dcterms:created>
  <dc:creator>007</dc:creator>
  <dc:description/>
  <dc:language>en-US</dc:language>
  <cp:lastModifiedBy>Admin</cp:lastModifiedBy>
  <dcterms:modified xsi:type="dcterms:W3CDTF">2011-04-19T17:39:51Z</dcterms:modified>
  <cp:revision>25</cp:revision>
  <dc:subject/>
  <dc:title>Слайд 1</dc:title>
</cp:coreProperties>
</file>